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41D3-E40E-457E-B9BB-A9846F3F2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7B73-C7C2-46EE-949A-EFFC76A16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utcaster.com/photo/801160119-Plant-growth-Stages-of-the-plant-develop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8547-2543-4F03-AC2B-4D3527E7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A02-2057-4047-ADAA-01805F14B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46F-BDBD-4F85-85C6-031F80CC3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CEE5-9AA0-4AB0-942B-A9E11216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7EFA-32F1-4E00-9392-270872680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CD2A-A369-4481-B5F6-FCEEBD93A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6308-CA8B-422D-86B8-8C3A117B4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B3FB-E796-4295-9D48-0B0DAD40327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B144-2413-4679-B2D1-D98E3FC0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gitalwebb.com/DownloadPre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6A70-FA0C-45A6-94B6-1AB0F927F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list_7018530_factors-germination-mung-beans-gro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50EF-51BF-49C7-953C-809A3CED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38FE-B517-4F51-9755-E3B6CE5B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8605-48F1-47CA-941E-A48B1246F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AAF7-0B9A-4EE4-9DF5-DE5CB1CC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2A1-944B-4019-B3DA-5CAF9BB7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9A4-D42D-4ABA-9383-72A223C8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450-6F2F-42DB-B911-64C5B9B4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701-C6F9-4CC9-9923-64669966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BB4-CA7A-4E6E-836E-3BCA9880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97A-3E90-4116-9676-C5C0BF90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D5D-E6B8-4461-ABCA-F35ACF37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730-5724-4627-B2CA-178C4055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EEC-4463-4FAE-B19A-21E95596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CA0-2CE6-4781-BA1F-33B8E2D7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DA5-8D99-45A2-AAB1-D50FDA9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D9F-7F08-44B7-845E-A5B4F0EB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5985-66BB-4573-BBA5-6211FC3D9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72360" y="119700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Growth that occurs due to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physical cont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File:Brunnichia ovata.jpg"/>
          <p:cNvPicPr/>
          <p:nvPr/>
        </p:nvPicPr>
        <p:blipFill>
          <a:blip r:embed="rId1"/>
          <a:stretch/>
        </p:blipFill>
        <p:spPr>
          <a:xfrm>
            <a:off x="176040" y="981000"/>
            <a:ext cx="58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3280" y="5024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nt horm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30" descr="File:Indol-3-ylacetic acid.svg"/>
          <p:cNvPicPr/>
          <p:nvPr/>
        </p:nvPicPr>
        <p:blipFill>
          <a:blip r:embed="rId1"/>
          <a:stretch/>
        </p:blipFill>
        <p:spPr>
          <a:xfrm>
            <a:off x="539640" y="1916280"/>
            <a:ext cx="2933640" cy="261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32" descr="File:Gibberellin A1.svg"/>
          <p:cNvPicPr/>
          <p:nvPr/>
        </p:nvPicPr>
        <p:blipFill>
          <a:blip r:embed="rId2"/>
          <a:stretch/>
        </p:blipFill>
        <p:spPr>
          <a:xfrm>
            <a:off x="4140360" y="1341360"/>
            <a:ext cx="45702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380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Verdana"/>
              </a:rPr>
              <a:t>Auxin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allows the cells on the shaded side of the plant to grow and elongate.  This causes the plant to lean towards the light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tumblr_m3lh4aTFK61rvu0g4o1_250"/>
          <p:cNvPicPr/>
          <p:nvPr/>
        </p:nvPicPr>
        <p:blipFill>
          <a:blip r:embed="rId1"/>
          <a:stretch/>
        </p:blipFill>
        <p:spPr>
          <a:xfrm>
            <a:off x="4140360" y="1916280"/>
            <a:ext cx="4876560" cy="43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29" descr="File:The effect of Gibberellins.svg"/>
          <p:cNvPicPr/>
          <p:nvPr/>
        </p:nvPicPr>
        <p:blipFill>
          <a:blip r:embed="rId1"/>
          <a:stretch/>
        </p:blipFill>
        <p:spPr>
          <a:xfrm>
            <a:off x="4500720" y="2276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slows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 of au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fruit_ripe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 (important during winte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pretty animated GIF "/>
          <p:cNvPicPr/>
          <p:nvPr/>
        </p:nvPicPr>
        <p:blipFill>
          <a:blip r:embed="rId1"/>
          <a:stretch/>
        </p:blipFill>
        <p:spPr>
          <a:xfrm>
            <a:off x="179280" y="1844640"/>
            <a:ext cx="6021360" cy="338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t2002b_s"/>
          <p:cNvPicPr/>
          <p:nvPr/>
        </p:nvPicPr>
        <p:blipFill>
          <a:blip r:embed="rId2"/>
          <a:stretch/>
        </p:blipFill>
        <p:spPr>
          <a:xfrm>
            <a:off x="684360" y="93492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File:Auxin.jpg"/>
          <p:cNvPicPr/>
          <p:nvPr/>
        </p:nvPicPr>
        <p:blipFill>
          <a:blip r:embed="rId1"/>
          <a:stretch/>
        </p:blipFill>
        <p:spPr>
          <a:xfrm>
            <a:off x="250920" y="1022400"/>
            <a:ext cx="3581280" cy="569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859280" y="1989000"/>
            <a:ext cx="37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h-oh. Something went wrong. A plant hormone is missing in the plant on the left. Which one do you think it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ndividual produced by a single parent by cell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Offspring is identical to 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 need for a 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’t adapt quickly to chang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File:Bryophyllum daigremontianum nahaufnahme1.jpg"/>
          <p:cNvPicPr/>
          <p:nvPr/>
        </p:nvPicPr>
        <p:blipFill>
          <a:blip r:embed="rId1"/>
          <a:stretch/>
        </p:blipFill>
        <p:spPr>
          <a:xfrm>
            <a:off x="4419720" y="2155680"/>
            <a:ext cx="44384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pretty animated GIF "/>
          <p:cNvPicPr/>
          <p:nvPr/>
        </p:nvPicPr>
        <p:blipFill>
          <a:blip r:embed="rId1"/>
          <a:stretch/>
        </p:blipFill>
        <p:spPr>
          <a:xfrm>
            <a:off x="179280" y="1844640"/>
            <a:ext cx="6021360" cy="338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bot_tobacco"/>
          <p:cNvPicPr/>
          <p:nvPr/>
        </p:nvPicPr>
        <p:blipFill>
          <a:blip r:embed="rId2"/>
          <a:stretch/>
        </p:blipFill>
        <p:spPr>
          <a:xfrm>
            <a:off x="3995640" y="1268280"/>
            <a:ext cx="2887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pretty animated GIF "/>
          <p:cNvPicPr/>
          <p:nvPr/>
        </p:nvPicPr>
        <p:blipFill>
          <a:blip r:embed="rId1"/>
          <a:stretch/>
        </p:blipFill>
        <p:spPr>
          <a:xfrm>
            <a:off x="179280" y="1844640"/>
            <a:ext cx="6021360" cy="338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ile:Bright red tomato and cross section02.jpg"/>
          <p:cNvPicPr/>
          <p:nvPr/>
        </p:nvPicPr>
        <p:blipFill>
          <a:blip r:embed="rId2"/>
          <a:srcRect l="50005" t="0" r="0" b="0"/>
          <a:stretch/>
        </p:blipFill>
        <p:spPr>
          <a:xfrm>
            <a:off x="4859280" y="1341360"/>
            <a:ext cx="3809880" cy="508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www.foodsubs.com/Photos/tomato-green.jpg"/>
          <p:cNvPicPr/>
          <p:nvPr/>
        </p:nvPicPr>
        <p:blipFill>
          <a:blip r:embed="rId3"/>
          <a:stretch/>
        </p:blipFill>
        <p:spPr>
          <a:xfrm>
            <a:off x="4629240" y="1700280"/>
            <a:ext cx="412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pretty animated GIF "/>
          <p:cNvPicPr/>
          <p:nvPr/>
        </p:nvPicPr>
        <p:blipFill>
          <a:blip r:embed="rId1"/>
          <a:stretch/>
        </p:blipFill>
        <p:spPr>
          <a:xfrm>
            <a:off x="179280" y="1844640"/>
            <a:ext cx="6021360" cy="338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www.foodsubs.com/Photos/tomato-green.jpg"/>
          <p:cNvPicPr/>
          <p:nvPr/>
        </p:nvPicPr>
        <p:blipFill>
          <a:blip r:embed="rId2"/>
          <a:stretch/>
        </p:blipFill>
        <p:spPr>
          <a:xfrm>
            <a:off x="3995640" y="1557360"/>
            <a:ext cx="4122720" cy="4179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54600" y="602136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ant to prepare this tomato to be shipped to Antarctic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ndividual produced from fusion of sex cells (from 2 par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Not  genetically identical to parents (half of genetic material from each par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pecialized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ed to attract 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bility to adapt quickly t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File:Hosta3.jpg"/>
          <p:cNvPicPr/>
          <p:nvPr/>
        </p:nvPicPr>
        <p:blipFill>
          <a:blip r:embed="rId1"/>
          <a:stretch/>
        </p:blipFill>
        <p:spPr>
          <a:xfrm>
            <a:off x="5796000" y="3213000"/>
            <a:ext cx="2808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35-12-MajorMeristems-L"/>
          <p:cNvPicPr/>
          <p:nvPr/>
        </p:nvPicPr>
        <p:blipFill>
          <a:blip r:embed="rId1"/>
          <a:stretch/>
        </p:blipFill>
        <p:spPr>
          <a:xfrm>
            <a:off x="468360" y="1052640"/>
            <a:ext cx="5011560" cy="55688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5504040" y="1166760"/>
            <a:ext cx="346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s of a plant where growth takes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ifferentiated cells become new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ke stem cells for pla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vironmental factors affect plant grow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rticle-new-ehow-images-a06-m6-12-factors-germination-mung-beans-grow-1"/>
          <p:cNvPicPr/>
          <p:nvPr/>
        </p:nvPicPr>
        <p:blipFill>
          <a:blip r:embed="rId1"/>
          <a:stretch/>
        </p:blipFill>
        <p:spPr>
          <a:xfrm>
            <a:off x="1692360" y="1879560"/>
            <a:ext cx="6003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factor that you studied in your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File:Photosynthesis.gif"/>
          <p:cNvPicPr/>
          <p:nvPr/>
        </p:nvPicPr>
        <p:blipFill>
          <a:blip r:embed="rId1"/>
          <a:stretch/>
        </p:blipFill>
        <p:spPr>
          <a:xfrm>
            <a:off x="4584600" y="1628640"/>
            <a:ext cx="36655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2081938105_3cb639bea5"/>
          <p:cNvPicPr/>
          <p:nvPr/>
        </p:nvPicPr>
        <p:blipFill>
          <a:blip r:embed="rId1"/>
          <a:stretch/>
        </p:blipFill>
        <p:spPr>
          <a:xfrm>
            <a:off x="1619280" y="2708280"/>
            <a:ext cx="5761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phototropism-11911"/>
          <p:cNvPicPr/>
          <p:nvPr/>
        </p:nvPicPr>
        <p:blipFill>
          <a:blip r:embed="rId1"/>
          <a:stretch/>
        </p:blipFill>
        <p:spPr>
          <a:xfrm>
            <a:off x="5181480" y="3851280"/>
            <a:ext cx="3276720" cy="3006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304920" y="952560"/>
            <a:ext cx="3504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Light affects the growth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parts of the plant that are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positively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phototrophic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are the leaves and 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parts that are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negatively phototrophic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are th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Sunflowers"/>
          <p:cNvPicPr/>
          <p:nvPr/>
        </p:nvPicPr>
        <p:blipFill>
          <a:blip r:embed="rId2"/>
          <a:stretch/>
        </p:blipFill>
        <p:spPr>
          <a:xfrm>
            <a:off x="4067280" y="879480"/>
            <a:ext cx="4800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Gravitropismwlight"/>
          <p:cNvPicPr/>
          <p:nvPr/>
        </p:nvPicPr>
        <p:blipFill>
          <a:blip r:embed="rId1"/>
          <a:stretch/>
        </p:blipFill>
        <p:spPr>
          <a:xfrm>
            <a:off x="3780000" y="1855800"/>
            <a:ext cx="5105160" cy="3828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08000" y="1700280"/>
            <a:ext cx="33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oots are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positively gravitr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tems and leaves are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negatively gravitropic </a:t>
            </a:r>
            <a:r>
              <a:rPr b="0" i="1" lang="en-CA" sz="2400" spc="-1" strike="noStrike">
                <a:solidFill>
                  <a:srgbClr val="000000"/>
                </a:solidFill>
                <a:latin typeface="Verdana"/>
              </a:rPr>
              <a:t>(they tend to grow in a direction against gra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Matt</cp:lastModifiedBy>
  <dcterms:modified xsi:type="dcterms:W3CDTF">2015-10-14T15:23:38Z</dcterms:modified>
  <cp:revision>57</cp:revision>
  <dc:subject/>
  <dc:title>Plant Growth</dc:title>
</cp:coreProperties>
</file>